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FA9-E1AB-4AA1-98AA-47276AAE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ADE-D5E9-471B-B2DC-BEF9E290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E7F-47F1-4052-A8F4-62759E1A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E34-7584-42D1-8291-09CDD561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E611-8385-48B6-B756-F17B5F39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6E65-45BD-4823-9EC7-BDAD4EEB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BA93-EA17-4B4D-ACBB-9B9DA847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58BD-8B84-495E-A542-A59AEBE3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0587-DB8F-4A6C-BF76-D16261D0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8BD2-EC25-4AB6-A10B-D1D89994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AB97-0934-46EE-9A13-58B2685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044-B55D-4E8B-942F-1A6CBD1E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3945-EECF-41AE-A66F-D1CB78FB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4812-4877-4E2C-B128-08AD2024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CB5D-D384-45D3-9EA3-60A63B68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CD79-E0F2-44CF-8FCB-961901D5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C19C-ED17-4977-B896-2007071A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09E1-AE99-498F-9380-8EFDA417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63E7-DA1C-4C82-9C91-ACE9A695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F9AA-DF74-4A70-98CC-B0246AFF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381F-7DDE-491B-BB8C-4DB7856A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F986-0A7B-49A6-82DC-AD55627A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1C7-9B5C-4D8E-94DD-C5EB5AC9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903F-BC22-4049-A0AC-24840D69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A9EA-592B-4673-9983-80061C69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564A-E6BB-4261-9B43-A6012C86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FD89-D8DF-4DD0-97DF-AB297B55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44C9-550D-43AE-90C9-108F37AF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69FA9-6574-4749-84E5-63521947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C00F-0A55-4410-A020-D6E85215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962F-B5DA-4C21-8A27-DC4A0C80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4612-0738-4B48-A09F-DED8F56E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893E-948A-4106-87DA-7C5F560C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786-CBB8-40A8-8FEA-DE03CADD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80198-4BEB-4A96-9570-F0EB320D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F22A-B135-494B-94D5-B8DB370E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504E-7B91-4609-94B2-D32DB3DD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D2E4-145A-43BF-8E06-65264D07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9D35-027A-4A11-BEEF-4ED8A21D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21E0-DA86-45CB-951A-41A6874D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3E09-5CEE-42AD-B838-20140CB3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E533-11DE-4B35-8D25-B5CFE5FB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D924-9C9E-4291-A627-6B2AAA25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F13-E5EF-4E10-BCA2-3BD5A021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6C9-6144-4A6E-ABC2-10A7295A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701-C6C4-4513-B4D0-6BE61C1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3FD-3AE0-445E-9B58-E544130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7C9-A064-4011-A9D6-FD3038B4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9831-A929-4C49-9605-684FDC6C6A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C37C-E5FA-41FD-B677-61F0BF2B91E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078A-1A35-4EB8-84C0-345AC42155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1C23-D572-4840-96AC-0ABD38B687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7" descr="20695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755640" y="0"/>
            <a:ext cx="7480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Муниципальное бюджетное общеобразовательное учреждение Куйбышевского райо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редняя общеобразовательная школа №9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684360" y="1628640"/>
            <a:ext cx="77724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Кислотные дожд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5038560" y="4221000"/>
            <a:ext cx="4105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1a8"/>
                </a:solidFill>
                <a:latin typeface="Times New Roman"/>
              </a:rPr>
              <a:t>Работу выполн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1a8"/>
                </a:solidFill>
                <a:latin typeface="Times New Roman"/>
              </a:rPr>
              <a:t>Сотникова Александ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1a8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fee1a8"/>
                </a:solidFill>
                <a:latin typeface="Times New Roman"/>
              </a:rPr>
              <a:t>ченица 10 класса «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1a8"/>
                </a:solidFill>
                <a:latin typeface="Times New Roman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1a8"/>
                </a:solidFill>
                <a:latin typeface="Times New Roman"/>
              </a:rPr>
              <a:t>Бочанова Ольга Никола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1a8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fee1a8"/>
                </a:solidFill>
                <a:latin typeface="Times New Roman"/>
              </a:rPr>
              <a:t>читель географии</a:t>
            </a:r>
            <a:r>
              <a:rPr b="0" lang="ru-RU" sz="2000" spc="-1" strike="noStrike">
                <a:solidFill>
                  <a:srgbClr val="fee1a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ee1a8"/>
                </a:solidFill>
                <a:latin typeface="Times New Roman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419640" y="6091200"/>
            <a:ext cx="22636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1a8"/>
                </a:solidFill>
                <a:latin typeface="Times New Roman"/>
              </a:rPr>
              <a:t>Куйбыше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1a8"/>
                </a:solidFill>
                <a:latin typeface="Times New Roman"/>
              </a:rPr>
              <a:t>201</a:t>
            </a:r>
            <a:r>
              <a:rPr b="0" lang="en-US" sz="2000" spc="-1" strike="noStrike">
                <a:solidFill>
                  <a:srgbClr val="fee1a8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4" name="Picture 15" descr="25060928_e9fedcb40e6f963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6"/>
          <p:cNvSpPr/>
          <p:nvPr/>
        </p:nvSpPr>
        <p:spPr>
          <a:xfrm>
            <a:off x="324000" y="260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Цел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выявление районов выпадения кислотных дождей и изучение последствий их воздействия на окружающую среду и человека.</a:t>
            </a: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17" name="Picture 25" descr="b4df6e315cfd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68360" y="0"/>
            <a:ext cx="828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Кислотные дожд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660840" y="1628640"/>
            <a:ext cx="54831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ермин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«кислотные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ожди» придумал в 1872 г. английский инженер Роберт  Сми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0075"/>
          <p:cNvPicPr/>
          <p:nvPr/>
        </p:nvPicPr>
        <p:blipFill>
          <a:blip r:embed="rId2"/>
          <a:stretch/>
        </p:blipFill>
        <p:spPr>
          <a:xfrm>
            <a:off x="611280" y="2924280"/>
            <a:ext cx="2592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6" descr="29814085"/>
          <p:cNvPicPr/>
          <p:nvPr/>
        </p:nvPicPr>
        <p:blipFill>
          <a:blip r:embed="rId1"/>
          <a:stretch/>
        </p:blipFill>
        <p:spPr>
          <a:xfrm>
            <a:off x="0" y="0"/>
            <a:ext cx="9180360" cy="7029360"/>
          </a:xfrm>
          <a:prstGeom prst="rect">
            <a:avLst/>
          </a:prstGeom>
          <a:ln w="0">
            <a:noFill/>
          </a:ln>
        </p:spPr>
      </p:pic>
      <p:sp>
        <p:nvSpPr>
          <p:cNvPr id="222" name="Cloud"/>
          <p:cNvSpPr/>
          <p:nvPr/>
        </p:nvSpPr>
        <p:spPr>
          <a:xfrm>
            <a:off x="324000" y="404640"/>
            <a:ext cx="5111640" cy="16956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d793"/>
                </a:solidFill>
                <a:latin typeface="Tahoma"/>
              </a:rPr>
              <a:t>SO</a:t>
            </a:r>
            <a:r>
              <a:rPr b="0" lang="en-US" sz="1800" spc="-1" strike="noStrike" baseline="-25000">
                <a:solidFill>
                  <a:srgbClr val="f9d793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f9d793"/>
                </a:solidFill>
                <a:latin typeface="Tahoma"/>
              </a:rPr>
              <a:t>+ H</a:t>
            </a:r>
            <a:r>
              <a:rPr b="0" lang="en-US" sz="1800" spc="-1" strike="noStrike" baseline="-25000">
                <a:solidFill>
                  <a:srgbClr val="f9d793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9d793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250920" y="189000"/>
            <a:ext cx="79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4240" indent="-2424240" algn="ctr">
              <a:lnSpc>
                <a:spcPct val="100000"/>
              </a:lnSpc>
              <a:tabLst>
                <a:tab algn="l" pos="0"/>
                <a:tab algn="l" pos="4781520"/>
                <a:tab algn="l" pos="7172280"/>
                <a:tab algn="l" pos="95630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684360" y="2276640"/>
            <a:ext cx="81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4240" indent="-2424240" algn="ctr">
              <a:lnSpc>
                <a:spcPct val="100000"/>
              </a:lnSpc>
              <a:tabLst>
                <a:tab algn="l" pos="0"/>
                <a:tab algn="l" pos="4781520"/>
                <a:tab algn="l" pos="7172280"/>
                <a:tab algn="l" pos="9563040"/>
              </a:tabLst>
            </a:pPr>
            <a:r>
              <a:rPr b="1" lang="en-US" sz="1600" spc="-1" strike="noStrike">
                <a:solidFill>
                  <a:srgbClr val="fee1a8"/>
                </a:solidFill>
                <a:latin typeface="Arial"/>
              </a:rPr>
              <a:t>NO</a:t>
            </a:r>
            <a:r>
              <a:rPr b="1" lang="en-US" sz="1600" spc="-1" strike="noStrike" baseline="-25000">
                <a:solidFill>
                  <a:srgbClr val="fee1a8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3348000" y="3789360"/>
            <a:ext cx="79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4240" indent="-2424240" algn="ctr">
              <a:lnSpc>
                <a:spcPct val="100000"/>
              </a:lnSpc>
              <a:tabLst>
                <a:tab algn="l" pos="0"/>
                <a:tab algn="l" pos="4781520"/>
                <a:tab algn="l" pos="7172280"/>
                <a:tab algn="l" pos="9563040"/>
              </a:tabLst>
            </a:pPr>
            <a:r>
              <a:rPr b="1" lang="en-US" sz="1600" spc="-1" strike="noStrike">
                <a:solidFill>
                  <a:srgbClr val="fee1a8"/>
                </a:solidFill>
                <a:latin typeface="Arial"/>
              </a:rPr>
              <a:t>SO</a:t>
            </a:r>
            <a:r>
              <a:rPr b="1" lang="en-US" sz="1600" spc="-1" strike="noStrike" baseline="-25000">
                <a:solidFill>
                  <a:srgbClr val="fee1a8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2510640" y="1916280"/>
            <a:ext cx="53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24240" indent="-2424240" algn="ctr">
              <a:lnSpc>
                <a:spcPct val="100000"/>
              </a:lnSpc>
              <a:tabLst>
                <a:tab algn="l" pos="0"/>
                <a:tab algn="l" pos="4781520"/>
                <a:tab algn="l" pos="7172280"/>
                <a:tab algn="l" pos="9563040"/>
              </a:tabLst>
            </a:pPr>
            <a:r>
              <a:rPr b="1" lang="en-US" sz="1600" spc="-1" strike="noStrike">
                <a:solidFill>
                  <a:srgbClr val="ffd05b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7524720" y="549360"/>
            <a:ext cx="79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4240" indent="-2424240" algn="ctr">
              <a:lnSpc>
                <a:spcPct val="100000"/>
              </a:lnSpc>
              <a:tabLst>
                <a:tab algn="l" pos="0"/>
                <a:tab algn="l" pos="4781520"/>
                <a:tab algn="l" pos="7172280"/>
                <a:tab algn="l" pos="9563040"/>
              </a:tabLst>
            </a:pPr>
            <a:r>
              <a:rPr b="1" lang="en-US" sz="1600" spc="-1" strike="noStrike">
                <a:solidFill>
                  <a:srgbClr val="ffd05b"/>
                </a:solidFill>
                <a:latin typeface="Arial"/>
              </a:rPr>
              <a:t>SO</a:t>
            </a:r>
            <a:r>
              <a:rPr b="1" lang="en-US" sz="1600" spc="-1" strike="noStrike" baseline="-25000">
                <a:solidFill>
                  <a:srgbClr val="ffd05b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" descr="j0293828"/>
          <p:cNvPicPr/>
          <p:nvPr/>
        </p:nvPicPr>
        <p:blipFill>
          <a:blip r:embed="rId2"/>
          <a:stretch/>
        </p:blipFill>
        <p:spPr>
          <a:xfrm>
            <a:off x="5796000" y="836640"/>
            <a:ext cx="2666880" cy="2808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6"/>
          <p:cNvSpPr/>
          <p:nvPr/>
        </p:nvSpPr>
        <p:spPr>
          <a:xfrm>
            <a:off x="5435640" y="3716280"/>
            <a:ext cx="75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4240" indent="-2424240" algn="ctr">
              <a:lnSpc>
                <a:spcPct val="100000"/>
              </a:lnSpc>
              <a:tabLst>
                <a:tab algn="l" pos="0"/>
                <a:tab algn="l" pos="4781520"/>
                <a:tab algn="l" pos="7172280"/>
                <a:tab algn="l" pos="95630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755640" y="3860640"/>
            <a:ext cx="6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4240" indent="-2424240" algn="ctr">
              <a:lnSpc>
                <a:spcPct val="100000"/>
              </a:lnSpc>
              <a:tabLst>
                <a:tab algn="l" pos="0"/>
                <a:tab algn="l" pos="4781520"/>
                <a:tab algn="l" pos="7172280"/>
                <a:tab algn="l" pos="956304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0" y="402156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SO2(Диоксид Серы) + H2O(Вода) =             Кислотный дожд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NO(Окись Азота) + H2O(Вода) = Кислотный дожд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18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a26d18"/>
                </a:solidFill>
                <a:latin typeface="Times New Roman"/>
              </a:rPr>
              <a:t>Схема образования кислотных осадков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следствия выпадения кислотных дожд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68360" y="1413000"/>
            <a:ext cx="821844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571680" y="1357200"/>
            <a:ext cx="82864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59"/>
                </a:solidFill>
                <a:latin typeface="Arial"/>
                <a:ea typeface="Arial"/>
              </a:rPr>
              <a:t>Выбросы отходов промышленного производства и печного отопления в воздух.</a:t>
            </a:r>
            <a:r>
              <a:rPr b="1" lang="ru-RU" sz="2800" spc="-1" strike="noStrike">
                <a:solidFill>
                  <a:srgbClr val="ffff59"/>
                </a:solidFill>
                <a:latin typeface="Arial"/>
                <a:ea typeface="Arial"/>
              </a:rPr>
              <a:t> Погибает большое количество животных и птиц.</a:t>
            </a:r>
            <a:r>
              <a:rPr b="1" lang="ru-RU" sz="2800" spc="-1" strike="noStrike">
                <a:solidFill>
                  <a:srgbClr val="ffff59"/>
                </a:solidFill>
                <a:latin typeface="Arial"/>
                <a:ea typeface="Arial"/>
              </a:rPr>
              <a:t> Загрязнение атмосферы  выхлопными газами автомобилей</a:t>
            </a:r>
            <a:r>
              <a:rPr b="1" lang="ru-RU" sz="2000" spc="-1" strike="noStrike">
                <a:solidFill>
                  <a:srgbClr val="ffff59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9" descr="800px-Pollution_-_Damaged_by_acid_rain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0" y="0"/>
            <a:ext cx="642924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e0c1"/>
                </a:solidFill>
                <a:latin typeface="Arial"/>
              </a:rPr>
              <a:t>Большая часть флоры и фауны, обитающей в чистых озерах и реках не способна противостоять кислотным дождям.</a:t>
            </a:r>
            <a:r>
              <a:rPr b="0" lang="ru-RU" sz="3200" spc="-1" strike="noStrike">
                <a:solidFill>
                  <a:srgbClr val="f0e0c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0e0c1"/>
                </a:solidFill>
                <a:latin typeface="Arial"/>
              </a:rPr>
              <a:t>Строительные материалы разрушаются, металлы разъедаются, цвет окраски порти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2777388_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457200" y="0"/>
            <a:ext cx="8362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Меры направленные на предотвращение выпадения кислотных дожд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24000" y="1700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05b"/>
                </a:solidFill>
                <a:latin typeface="Times New Roman"/>
              </a:rPr>
              <a:t>Резко снизить выбросы в атмосферу окислов серы и азо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05b"/>
                </a:solidFill>
                <a:latin typeface="Times New Roman"/>
              </a:rPr>
              <a:t>Устанавливать фильтры на трубы и на маши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05b"/>
                </a:solidFill>
                <a:latin typeface="Times New Roman"/>
              </a:rPr>
              <a:t>Сокращение количества свалок бытового и промышленного мусо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05b"/>
                </a:solidFill>
                <a:latin typeface="Times New Roman"/>
              </a:rPr>
              <a:t>Озеленение города и территории вдоль дорог. Переход на новые технологии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0:30:01Z</dcterms:created>
  <dc:creator>Admin</dc:creator>
  <dc:description/>
  <dc:language>en-US</dc:language>
  <cp:lastModifiedBy>Ш</cp:lastModifiedBy>
  <dcterms:modified xsi:type="dcterms:W3CDTF">2011-01-31T08:14:53Z</dcterms:modified>
  <cp:revision>27</cp:revision>
  <dc:subject/>
  <dc:title>Кислотные дожди</dc:title>
</cp:coreProperties>
</file>